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6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2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27.jpeg" ContentType="image/jpeg"/>
  <Override PartName="/ppt/media/image10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png" ContentType="image/pn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91D3-1988-4FFB-ACC1-7B12DA303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Nancy indicated,  we not only had to write a curriculum with literature appreciation, location and access skills, and information literac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had to do it in the framework of 21st century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reserched and identified the best practices for academic success in the 21st century,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not only looked at the 21st century LEARNING ENVIRONMENT... we looked at THE 21ST CENTURY student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21st century kid is busy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y've got a lot to do...all the time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ores, homework, friends, organized sports, scouts, lessons, sleep, family, movies, music, TV,  videos,computing, gaming, texting, religious instruction, traveling, school,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d maybe, if they are lucky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little time for hobbies, conversing, relaxing, reading, daydreaming, joking, praying, journaling, and even a little doodl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have a lot to learn....and we have a lot to teac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framework for learning AND TEACHING has evolved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School 1 point 0 we have our core subjects of reading, Writing, arithmetic, -3 R'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stery of these was the goal of edu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  the recent past 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arning was mastery of the core subject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glish, reading or lang arts, world language, arts, mathematics, economics, civics, science, geography, history, and govern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School 1.0 library we had print dictionaries, encyclopedias, atlases, fiction, non-fiction, periodicals, biographies, short stories, poetry, all nicely organized on orderly shelves.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beled with a Dewey Decimal  # for location and retrie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all the resources had finding aids for ease of use by our information seekers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phabetical order, chronological order, table of contents, Index, glossary, see references, headings in bol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olated lessons, to learn about the 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resources written with authority by experts in their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ople, places, ev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o, what where wh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d the 10  facts, in and 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the information wasn't in the library...it didn't ex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t the  paradigm shifted and we've been busy too...often times just trying to keep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this PA Dept. of Ed chart illust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have moved instruction in Pennsylvania schoo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om what one might commonly think of as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earning activities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the School 1.0 set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21st Century learning environm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 what can be 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chool 2.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 our classrooms and library media center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migrating from teacher centered to learner cente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will use the information we locate, not just memorize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are looking for the How? and Why?  of a subject... making connection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are interdisciplinary and collaborat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 School 2.0 or 21st century learning environ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core subjects are now woven into the 21st century interdisciplinary themes 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alth lite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lobal aware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ivic lite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vironmental literac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the 4 C'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un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think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earning and innovation skills 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nov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blem solving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itical thinking and creativ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life and work environment of the future will require far more than thinking skills and content knowle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will requir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lexibility, adaptability, initiative, self-direction, social and cultural skills, productivity, leadership and responsi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dd the ever-evolving technology, media and information ski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quals 21st century learning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ology is an important component of the 2lst century learning environment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gral to the School 2.0  environ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live in a technology and media-driven wor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part of how we and our students live, work, communicate, collaborate, relax, teach, and learn.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gital information is the backbone of the library media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students now have acc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 an abundance of information,  24/7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is wild and uncatalo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ology tools in the library media center and classroom are rapidly chang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portunites for learning, collaborating, creating, communicating, and discovery, with technology is unlimi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s we venture into the RTI initiative the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we collaborate and design inquiry-based projects for independent learning, and  RTI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will be shelving the old Bloom's Taxology  .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the last 50 yea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lped us design learning objectives that had a hierarchical organ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subject matter content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ol we used for designing test i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will be employing the new Bloom's Taxonomy in our research proj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erbs, Active, Focus on the cognitive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w do you want your students to interact with the information they are seek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tand what they are looking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hat do you want them to do with the information they have found? App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information gathered and make connections- compare/contr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fferentiate fact from opin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the reliability, usefuleness of information fou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valuate the process of gathering i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eate a product using new found knowledge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updated information literacy units are designed to empower the students with the necessary skills needed to navigate, access and evaluat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information universe in this digital environ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students think they have won the information lottery wi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200,000,000 Hits on a Google search for Texas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s don't know how to get to the information  they require...information over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ich tools to u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are they organized to find information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 I know the information is relevant/ reliabl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w do I organize all of the information I have fou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is no way to stop the tide of informatio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have to empower our students to navigate this ocean of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an no longer teach students everything they need to k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have to teach them how to find the inforam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ormation literacy is a life skill for life long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ra will now help us connect the student and the information skills through collabor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1A84F-B8A8-4B14-B3E8-148983A0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3CB2-9E43-4FF3-B5E9-EC02A11AA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48B7-3AC2-4C62-B6D3-55C5B006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C57C-2082-4099-A3A7-4538B398A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4E7-B12B-4BE0-B294-AA22404DA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0058F-E562-4521-B997-7A8E226BD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74D2-BDA2-4268-80AC-C2F67F9A0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20A13-865E-4845-9D1E-56FE9D697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7293-0313-444D-8BF6-FF13967EE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7525-0C45-4740-9087-5202BFB1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774C-C06B-438B-9E72-B3710A96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B8B9-C480-44AC-8C64-20E6C3B2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B60A1-6D0B-4853-9CD5-EDB0D32FE2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2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50760" y="1941120"/>
            <a:ext cx="7135560" cy="153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ffffff"/>
                </a:solidFill>
                <a:latin typeface="Arial"/>
              </a:rPr>
              <a:t>Empowering</a:t>
            </a:r>
            <a:br>
              <a:rPr sz="6700"/>
            </a:br>
            <a:r>
              <a:rPr b="0" lang="en-US" sz="6700" spc="-1" strike="noStrike">
                <a:solidFill>
                  <a:srgbClr val="ffffff"/>
                </a:solidFill>
                <a:latin typeface="Arial"/>
              </a:rPr>
              <a:t>Learners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850760" y="3817800"/>
            <a:ext cx="3663720" cy="9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cb3d7"/>
                </a:solidFill>
                <a:latin typeface="Arial"/>
              </a:rPr>
              <a:t>@ your libr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49200" y="209520"/>
            <a:ext cx="9613800" cy="74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PA Standards--Reading &amp; Writing</a:t>
            </a:r>
            <a:br>
              <a:rPr sz="3700"/>
            </a:b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AASL Standards</a:t>
            </a:r>
            <a:br>
              <a:rPr sz="3700"/>
            </a:b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Big 6--Super 3</a:t>
            </a:r>
            <a:br>
              <a:rPr sz="3700"/>
            </a:br>
            <a:br>
              <a:rPr sz="3700"/>
            </a:b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7 Habit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areer Standar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ISTE Standard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Exemplary Library Curricula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615960" y="203040"/>
            <a:ext cx="8807400" cy="724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825480" y="-101520"/>
            <a:ext cx="8364600" cy="7048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95800" y="7010280"/>
            <a:ext cx="4141800" cy="46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 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031840" y="1523880"/>
            <a:ext cx="12960" cy="129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2031840" y="1523880"/>
            <a:ext cx="12960" cy="12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031840" y="1523880"/>
            <a:ext cx="12960" cy="129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2743200" y="0"/>
            <a:ext cx="4073400" cy="87624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477720" y="590400"/>
            <a:ext cx="9202680" cy="6869160"/>
            <a:chOff x="477720" y="590400"/>
            <a:chExt cx="9202680" cy="6869160"/>
          </a:xfrm>
        </p:grpSpPr>
        <p:sp>
          <p:nvSpPr>
            <p:cNvPr id="78" name=""/>
            <p:cNvSpPr/>
            <p:nvPr/>
          </p:nvSpPr>
          <p:spPr>
            <a:xfrm>
              <a:off x="477720" y="590400"/>
              <a:ext cx="450864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School 1.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ff0000"/>
                  </a:solidFill>
                  <a:uFillTx/>
                  <a:latin typeface="Arial"/>
                </a:rPr>
                <a:t>Learning Activitie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986360" y="590400"/>
              <a:ext cx="4694040" cy="94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u="sng">
                  <a:solidFill>
                    <a:srgbClr val="000000"/>
                  </a:solidFill>
                  <a:uFillTx/>
                  <a:latin typeface="Arial"/>
                </a:rPr>
                <a:t>School 2.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 u="sng">
                  <a:solidFill>
                    <a:srgbClr val="ff0000"/>
                  </a:solidFill>
                  <a:uFillTx/>
                  <a:latin typeface="Arial"/>
                </a:rPr>
                <a:t>Learning Environments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77720" y="1531800"/>
              <a:ext cx="4508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acher Cente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986360" y="1531800"/>
              <a:ext cx="4694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arner Center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77720" y="1960560"/>
              <a:ext cx="4508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Content Coverag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86360" y="1960560"/>
              <a:ext cx="4694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Learning and Do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7720" y="2389320"/>
              <a:ext cx="45086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izing 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986360" y="2389320"/>
              <a:ext cx="4694040" cy="4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Using 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7720" y="2817720"/>
              <a:ext cx="45086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Lectur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986360" y="2817720"/>
              <a:ext cx="469404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Facilitator/Co-lear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77720" y="3262320"/>
              <a:ext cx="4508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ole Group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86360" y="3262320"/>
              <a:ext cx="4694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ible Grou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77720" y="3691080"/>
              <a:ext cx="450864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Single instructional 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and learning modality 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986360" y="3691080"/>
              <a:ext cx="4694040" cy="99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ultiple instruction </a:t>
              </a:r>
              <a:r>
                <a:rPr b="1" lang="en-US" sz="2100" spc="-1" strike="noStrike">
                  <a:solidFill>
                    <a:srgbClr val="ff0000"/>
                  </a:solidFill>
                  <a:latin typeface="Arial"/>
                </a:rPr>
                <a:t>&amp;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 learning modalities-include all student</a:t>
              </a: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7720" y="4684680"/>
              <a:ext cx="450864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Memorization and Recall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986360" y="4684680"/>
              <a:ext cx="4694040" cy="8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Higher Order Thinking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000000"/>
                  </a:solidFill>
                  <a:latin typeface="Arial"/>
                </a:rPr>
                <a:t>Skills - Creativity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77720" y="5524560"/>
              <a:ext cx="45086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Single Discip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986360" y="5524560"/>
              <a:ext cx="469404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Interdisciplina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77720" y="6021360"/>
              <a:ext cx="45086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solat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986360" y="6021360"/>
              <a:ext cx="469404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ollaborativ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77720" y="6483240"/>
              <a:ext cx="45086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Textbook Depend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986360" y="6483240"/>
              <a:ext cx="469404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ultiple Sources of Inform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7720" y="6980400"/>
              <a:ext cx="450864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earning Cont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86360" y="6980400"/>
              <a:ext cx="4694040" cy="47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Learning How to Lear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986360" y="59040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986360" y="153180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86360" y="196056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986360" y="238932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86360" y="281772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986360" y="326232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986360" y="369108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986360" y="468468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986360" y="552456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986360" y="602136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986360" y="648324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986360" y="698040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986360" y="7459560"/>
              <a:ext cx="4694040" cy="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7720" y="6980400"/>
              <a:ext cx="0" cy="47916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986360" y="6980400"/>
              <a:ext cx="0" cy="47916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680400" y="6980400"/>
              <a:ext cx="0" cy="479160"/>
            </a:xfrm>
            <a:prstGeom prst="line">
              <a:avLst/>
            </a:prstGeom>
            <a:ln cap="sq"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77720" y="59040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7720" y="590400"/>
              <a:ext cx="450864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77720" y="590400"/>
              <a:ext cx="0" cy="9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7720" y="590400"/>
              <a:ext cx="0" cy="9414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86360" y="590400"/>
              <a:ext cx="0" cy="9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986360" y="590400"/>
              <a:ext cx="0" cy="9414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77720" y="153180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7720" y="153180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86360" y="59040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680400" y="590400"/>
              <a:ext cx="0" cy="941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680400" y="590400"/>
              <a:ext cx="0" cy="9414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986360" y="153180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7720" y="153180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77720" y="1531800"/>
              <a:ext cx="0" cy="4287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86360" y="153180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86360" y="1531800"/>
              <a:ext cx="0" cy="4287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7720" y="196056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7720" y="196056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680400" y="153180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680400" y="1531800"/>
              <a:ext cx="0" cy="4287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986360" y="196056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77720" y="196056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7720" y="1960560"/>
              <a:ext cx="0" cy="4287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86360" y="196056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86360" y="1960560"/>
              <a:ext cx="0" cy="4287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7720" y="238932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77720" y="238932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9680400" y="196056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680400" y="1960560"/>
              <a:ext cx="0" cy="4287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86360" y="238932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77720" y="2389320"/>
              <a:ext cx="0" cy="42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77720" y="2389320"/>
              <a:ext cx="0" cy="4284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86360" y="2389320"/>
              <a:ext cx="0" cy="42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986360" y="2389320"/>
              <a:ext cx="0" cy="4284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77720" y="281772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77720" y="281772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680400" y="2389320"/>
              <a:ext cx="0" cy="428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680400" y="2389320"/>
              <a:ext cx="0" cy="4284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986360" y="281772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7720" y="2817720"/>
              <a:ext cx="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7720" y="2817720"/>
              <a:ext cx="0" cy="4446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986360" y="2817720"/>
              <a:ext cx="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986360" y="2817720"/>
              <a:ext cx="0" cy="4446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720" y="326232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77720" y="326232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680400" y="2817720"/>
              <a:ext cx="0" cy="444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680400" y="2817720"/>
              <a:ext cx="0" cy="4446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86360" y="326232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77720" y="326232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77720" y="3262320"/>
              <a:ext cx="0" cy="4287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986360" y="326232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986360" y="3262320"/>
              <a:ext cx="0" cy="4287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7720" y="369108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77720" y="369108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680400" y="3262320"/>
              <a:ext cx="0" cy="428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680400" y="3262320"/>
              <a:ext cx="0" cy="4287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86360" y="369108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77720" y="3691080"/>
              <a:ext cx="0" cy="9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77720" y="3691080"/>
              <a:ext cx="0" cy="9936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86360" y="3691080"/>
              <a:ext cx="0" cy="9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986360" y="3691080"/>
              <a:ext cx="0" cy="9936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77720" y="468468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7720" y="468468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9680400" y="3691080"/>
              <a:ext cx="0" cy="99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9680400" y="3691080"/>
              <a:ext cx="0" cy="9936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86360" y="468468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7720" y="4684680"/>
              <a:ext cx="0" cy="83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7720" y="4684680"/>
              <a:ext cx="0" cy="83988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86360" y="4684680"/>
              <a:ext cx="0" cy="83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86360" y="4684680"/>
              <a:ext cx="0" cy="8398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77720" y="552456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7720" y="552456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9680400" y="4684680"/>
              <a:ext cx="0" cy="839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680400" y="4684680"/>
              <a:ext cx="0" cy="83988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86360" y="552456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7720" y="5524560"/>
              <a:ext cx="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77720" y="5524560"/>
              <a:ext cx="0" cy="4968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86360" y="5524560"/>
              <a:ext cx="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986360" y="5524560"/>
              <a:ext cx="0" cy="49680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7720" y="602136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77720" y="602136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680400" y="5524560"/>
              <a:ext cx="0" cy="496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9680400" y="5524560"/>
              <a:ext cx="0" cy="49680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986360" y="602136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7720" y="6021360"/>
              <a:ext cx="0" cy="46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7720" y="6021360"/>
              <a:ext cx="0" cy="46188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86360" y="6021360"/>
              <a:ext cx="0" cy="46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86360" y="6021360"/>
              <a:ext cx="0" cy="46188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7720" y="648324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77720" y="648324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9680400" y="6021360"/>
              <a:ext cx="0" cy="4618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9680400" y="6021360"/>
              <a:ext cx="0" cy="46188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986360" y="648324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77720" y="6483240"/>
              <a:ext cx="0" cy="49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77720" y="6483240"/>
              <a:ext cx="0" cy="4971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986360" y="6483240"/>
              <a:ext cx="0" cy="49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986360" y="6483240"/>
              <a:ext cx="0" cy="49716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7720" y="698040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7720" y="6980400"/>
              <a:ext cx="4508640" cy="0"/>
            </a:xfrm>
            <a:prstGeom prst="line">
              <a:avLst/>
            </a:prstGeom>
            <a:ln cap="sq"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9680400" y="6483240"/>
              <a:ext cx="0" cy="4971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80400" y="6483240"/>
              <a:ext cx="0" cy="49716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86360" y="698040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720" y="6980400"/>
              <a:ext cx="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86360" y="6980400"/>
              <a:ext cx="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77720" y="7459560"/>
              <a:ext cx="45086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77720" y="7459560"/>
              <a:ext cx="4508640" cy="0"/>
            </a:xfrm>
            <a:prstGeom prst="line">
              <a:avLst/>
            </a:prstGeom>
            <a:ln cap="sq"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9680400" y="6980400"/>
              <a:ext cx="0" cy="47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86360" y="7459560"/>
              <a:ext cx="469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6" name="" descr=""/>
          <p:cNvPicPr/>
          <p:nvPr/>
        </p:nvPicPr>
        <p:blipFill>
          <a:blip r:embed="rId5"/>
          <a:stretch/>
        </p:blipFill>
        <p:spPr>
          <a:xfrm>
            <a:off x="2031840" y="1523880"/>
            <a:ext cx="12960" cy="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e2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82440"/>
            <a:ext cx="10110960" cy="746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1015920" y="203040"/>
            <a:ext cx="8528040" cy="64962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3498840" y="6908760"/>
            <a:ext cx="3809880" cy="46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hool 2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428800" y="203040"/>
            <a:ext cx="3917880" cy="52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00ff"/>
                </a:solidFill>
                <a:latin typeface="Arial"/>
              </a:rPr>
              <a:t>New Bloom </a:t>
            </a:r>
            <a:r>
              <a:rPr b="1" lang="en-US" sz="2100" spc="-1" strike="noStrike">
                <a:solidFill>
                  <a:srgbClr val="9900ff"/>
                </a:solidFill>
                <a:latin typeface="Arial"/>
              </a:rPr>
              <a:t>VERB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4673520" y="812880"/>
            <a:ext cx="5372280" cy="59259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01520" y="3759120"/>
            <a:ext cx="4476960" cy="36561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55640" y="2743200"/>
            <a:ext cx="319896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b5394"/>
                </a:solidFill>
                <a:latin typeface="Arial"/>
              </a:rPr>
              <a:t>Old Bloom </a:t>
            </a:r>
            <a:r>
              <a:rPr b="1" lang="en-US" sz="2100" spc="-1" strike="noStrike">
                <a:solidFill>
                  <a:srgbClr val="0b5394"/>
                </a:solidFill>
                <a:latin typeface="Arial"/>
              </a:rPr>
              <a:t>NOUNS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484280" y="6738840"/>
            <a:ext cx="7023240" cy="107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AASL Standards for the 21st Century Learn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age created in Wordle: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http://www.wordle.net/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92200" y="338040"/>
            <a:ext cx="8647200" cy="633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440" y="-47520"/>
            <a:ext cx="10133280" cy="76118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615960" y="4070520"/>
            <a:ext cx="5133960" cy="3305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28"/>
                </a:moveTo>
                <a:cubicBezTo>
                  <a:pt x="21600" y="3863"/>
                  <a:pt x="16763" y="0"/>
                  <a:pt x="10799" y="0"/>
                </a:cubicBezTo>
                <a:cubicBezTo>
                  <a:pt x="4833" y="0"/>
                  <a:pt x="0" y="3863"/>
                  <a:pt x="0" y="8628"/>
                </a:cubicBezTo>
                <a:cubicBezTo>
                  <a:pt x="0" y="12311"/>
                  <a:pt x="2883" y="15453"/>
                  <a:pt x="6947" y="16693"/>
                </a:cubicBezTo>
                <a:cubicBezTo>
                  <a:pt x="7371" y="16821"/>
                  <a:pt x="7356" y="19211"/>
                  <a:pt x="5803" y="21600"/>
                </a:cubicBezTo>
                <a:cubicBezTo>
                  <a:pt x="8571" y="20513"/>
                  <a:pt x="9126" y="17161"/>
                  <a:pt x="9574" y="17203"/>
                </a:cubicBezTo>
                <a:cubicBezTo>
                  <a:pt x="9976" y="17238"/>
                  <a:pt x="10384" y="17257"/>
                  <a:pt x="10799" y="17257"/>
                </a:cubicBezTo>
                <a:cubicBezTo>
                  <a:pt x="16763" y="17257"/>
                  <a:pt x="21600" y="13394"/>
                  <a:pt x="21600" y="86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0040" y="4368960"/>
            <a:ext cx="3684600" cy="13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          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ollaborat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05400" y="209520"/>
            <a:ext cx="3735360" cy="177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28"/>
                </a:moveTo>
                <a:cubicBezTo>
                  <a:pt x="21600" y="3863"/>
                  <a:pt x="16763" y="0"/>
                  <a:pt x="10799" y="0"/>
                </a:cubicBezTo>
                <a:cubicBezTo>
                  <a:pt x="4833" y="0"/>
                  <a:pt x="0" y="3863"/>
                  <a:pt x="0" y="8628"/>
                </a:cubicBezTo>
                <a:cubicBezTo>
                  <a:pt x="0" y="12311"/>
                  <a:pt x="2883" y="15453"/>
                  <a:pt x="6947" y="16693"/>
                </a:cubicBezTo>
                <a:cubicBezTo>
                  <a:pt x="7371" y="16821"/>
                  <a:pt x="7356" y="19211"/>
                  <a:pt x="5803" y="21600"/>
                </a:cubicBezTo>
                <a:cubicBezTo>
                  <a:pt x="8571" y="20513"/>
                  <a:pt x="9126" y="17161"/>
                  <a:pt x="9574" y="17203"/>
                </a:cubicBezTo>
                <a:cubicBezTo>
                  <a:pt x="9976" y="17238"/>
                  <a:pt x="10384" y="17257"/>
                  <a:pt x="10799" y="17257"/>
                </a:cubicBezTo>
                <a:cubicBezTo>
                  <a:pt x="16763" y="17257"/>
                  <a:pt x="21600" y="13394"/>
                  <a:pt x="21600" y="86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07280" y="3054240"/>
            <a:ext cx="3735360" cy="1773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28"/>
                </a:moveTo>
                <a:cubicBezTo>
                  <a:pt x="21600" y="3863"/>
                  <a:pt x="16763" y="0"/>
                  <a:pt x="10799" y="0"/>
                </a:cubicBezTo>
                <a:cubicBezTo>
                  <a:pt x="4833" y="0"/>
                  <a:pt x="0" y="3863"/>
                  <a:pt x="0" y="8628"/>
                </a:cubicBezTo>
                <a:cubicBezTo>
                  <a:pt x="0" y="12311"/>
                  <a:pt x="2883" y="15453"/>
                  <a:pt x="6947" y="16693"/>
                </a:cubicBezTo>
                <a:cubicBezTo>
                  <a:pt x="7371" y="16821"/>
                  <a:pt x="7356" y="19211"/>
                  <a:pt x="5803" y="21600"/>
                </a:cubicBezTo>
                <a:cubicBezTo>
                  <a:pt x="8571" y="20513"/>
                  <a:pt x="9126" y="17161"/>
                  <a:pt x="9574" y="17203"/>
                </a:cubicBezTo>
                <a:cubicBezTo>
                  <a:pt x="9976" y="17238"/>
                  <a:pt x="10384" y="17257"/>
                  <a:pt x="10799" y="17257"/>
                </a:cubicBezTo>
                <a:cubicBezTo>
                  <a:pt x="16763" y="17257"/>
                  <a:pt x="21600" y="13394"/>
                  <a:pt x="21600" y="86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28840" y="920880"/>
            <a:ext cx="2949480" cy="1563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8628"/>
                </a:moveTo>
                <a:cubicBezTo>
                  <a:pt x="21600" y="3863"/>
                  <a:pt x="16763" y="0"/>
                  <a:pt x="10799" y="0"/>
                </a:cubicBezTo>
                <a:cubicBezTo>
                  <a:pt x="4833" y="0"/>
                  <a:pt x="0" y="3863"/>
                  <a:pt x="0" y="8628"/>
                </a:cubicBezTo>
                <a:cubicBezTo>
                  <a:pt x="0" y="12311"/>
                  <a:pt x="2883" y="15453"/>
                  <a:pt x="6947" y="16693"/>
                </a:cubicBezTo>
                <a:cubicBezTo>
                  <a:pt x="7371" y="16821"/>
                  <a:pt x="7356" y="19211"/>
                  <a:pt x="5803" y="21600"/>
                </a:cubicBezTo>
                <a:cubicBezTo>
                  <a:pt x="8571" y="20513"/>
                  <a:pt x="9126" y="17161"/>
                  <a:pt x="9574" y="17203"/>
                </a:cubicBezTo>
                <a:cubicBezTo>
                  <a:pt x="9976" y="17238"/>
                  <a:pt x="10384" y="17257"/>
                  <a:pt x="10799" y="17257"/>
                </a:cubicBezTo>
                <a:cubicBezTo>
                  <a:pt x="16763" y="17257"/>
                  <a:pt x="21600" y="13394"/>
                  <a:pt x="21600" y="8628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70040" y="1219320"/>
            <a:ext cx="24559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US" sz="2700" spc="-1" strike="noStrike">
                <a:solidFill>
                  <a:srgbClr val="444444"/>
                </a:solidFill>
                <a:latin typeface="Arial"/>
              </a:rPr>
              <a:t>Communicat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054920" y="203040"/>
            <a:ext cx="24559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3200" spc="-1" strike="noStrike">
                <a:solidFill>
                  <a:srgbClr val="444444"/>
                </a:solidFill>
                <a:latin typeface="Arial"/>
              </a:rPr>
              <a:t>Cooper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953400" y="3454560"/>
            <a:ext cx="2666880" cy="5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 </a:t>
            </a:r>
            <a:r>
              <a:rPr b="0" lang="en-US" sz="3500" spc="-1" strike="noStrike">
                <a:solidFill>
                  <a:srgbClr val="444444"/>
                </a:solidFill>
                <a:latin typeface="Arial"/>
              </a:rPr>
              <a:t>Coordinate.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2684520" y="303120"/>
            <a:ext cx="464976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</a:rPr>
              <a:t>100 Ways to Collabo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6160" y="1422360"/>
            <a:ext cx="974556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   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Collaboration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is a trusting, working relationship between two or more equal participants involved in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 shared thinking, shared planning and shared creation of integrated instruction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Arial"/>
              </a:rPr>
              <a:t>    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rough a shared vision and shared objectives, student learning opportunities are created that integrate subject content and information literacy by </a:t>
            </a:r>
            <a:r>
              <a:rPr b="0" i="1" lang="en-US" sz="3200" spc="-1" strike="noStrike">
                <a:solidFill>
                  <a:srgbClr val="ff0000"/>
                </a:solidFill>
                <a:latin typeface="Arial"/>
              </a:rPr>
              <a:t>co-planning, co-implementing, and co-evaluating.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38200" y="1117440"/>
            <a:ext cx="834372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7375e"/>
                </a:solidFill>
                <a:latin typeface="Arial"/>
              </a:rPr>
              <a:t>Library Media Curriculum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Nancy Barley – Pleasant Vall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7375e"/>
                </a:solidFill>
                <a:latin typeface="Arial"/>
              </a:rPr>
              <a:t>21st Century Learning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Meg Owens – McMurray Element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17375e"/>
                </a:solidFill>
                <a:latin typeface="Arial"/>
              </a:rPr>
              <a:t>Collaboration</a:t>
            </a:r>
            <a:r>
              <a:rPr b="1" lang="en-US" sz="2600" spc="-1" strike="noStrike">
                <a:solidFill>
                  <a:srgbClr val="17375e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Myra Oleynik – Bower H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5880" y="304560"/>
            <a:ext cx="9667800" cy="118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ollaboration impacts student achievement.</a:t>
            </a:r>
            <a:br>
              <a:rPr sz="3700"/>
            </a:b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785680" y="6602040"/>
            <a:ext cx="5443560" cy="27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We're linked to research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2030400" y="1623960"/>
            <a:ext cx="5716440" cy="42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52240" y="5587560"/>
            <a:ext cx="8870760" cy="11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ccccff"/>
                </a:solidFill>
                <a:uFillTx/>
                <a:latin typeface="Arial"/>
              </a:rPr>
              <a:t>  We're linked to other librarians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3352680" y="1422360"/>
            <a:ext cx="3024360" cy="37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45880" y="299880"/>
            <a:ext cx="9577080" cy="80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Professional Learning Network</a:t>
            </a:r>
            <a:br>
              <a:rPr sz="2700"/>
            </a:b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47320" y="1523520"/>
            <a:ext cx="9634680" cy="57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3120" y="1116000"/>
            <a:ext cx="9518760" cy="62294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29240" y="303120"/>
            <a:ext cx="42940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LIVE Classroom 2.0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117440" y="1015920"/>
            <a:ext cx="7912440" cy="60040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1973160" y="2843280"/>
            <a:ext cx="6796080" cy="76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3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5300" spc="-1" strike="noStrike">
                <a:solidFill>
                  <a:srgbClr val="ffffff"/>
                </a:solidFill>
                <a:latin typeface="Arial"/>
              </a:rPr>
              <a:t>Still on the fence?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550800" y="608040"/>
            <a:ext cx="16002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Tagxe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741760" y="506520"/>
            <a:ext cx="53244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-250920" y="-149400"/>
            <a:ext cx="10479240" cy="769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1520" y="101520"/>
            <a:ext cx="10061640" cy="761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33440" y="912960"/>
            <a:ext cx="5000760" cy="6476760"/>
          </a:xfrm>
          <a:prstGeom prst="rect">
            <a:avLst/>
          </a:prstGeom>
          <a:ln w="0">
            <a:noFill/>
          </a:ln>
        </p:spPr>
      </p:pic>
      <p:sp>
        <p:nvSpPr>
          <p:cNvPr id="263" name=""/>
          <p:cNvSpPr/>
          <p:nvPr/>
        </p:nvSpPr>
        <p:spPr>
          <a:xfrm>
            <a:off x="2379600" y="404640"/>
            <a:ext cx="53863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</a:rPr>
              <a:t>Tagxed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Click here to interact with word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438280" y="406440"/>
            <a:ext cx="5365800" cy="67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1440" y="101520"/>
            <a:ext cx="9847440" cy="28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Write a curriculum to develop life-long learners who are effective users of ideas and infor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7120" y="4138560"/>
            <a:ext cx="9734760" cy="21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Arial"/>
              </a:rPr>
              <a:t>GOALS</a:t>
            </a:r>
            <a:endParaRPr b="0" lang="en-US" sz="5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Flexible learning environmen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76920" y="2101680"/>
            <a:ext cx="5202000" cy="3770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01520" y="2031840"/>
            <a:ext cx="4732560" cy="3827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1317600" y="98280"/>
            <a:ext cx="1903320" cy="2151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299280" y="101520"/>
            <a:ext cx="23144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83360" y="1908000"/>
            <a:ext cx="4219560" cy="44658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09480" y="1930320"/>
            <a:ext cx="4353120" cy="4443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523880" y="507960"/>
            <a:ext cx="2406600" cy="1879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7112160" y="812880"/>
            <a:ext cx="1680840" cy="18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120680" y="411120"/>
            <a:ext cx="83901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73040" y="4844880"/>
            <a:ext cx="871056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If everyone is moving forward together, then success takes care of itself."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                                                           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Henry Ford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235240" y="203040"/>
            <a:ext cx="5715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4280" y="101520"/>
            <a:ext cx="10014120" cy="8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7680" y="1219320"/>
            <a:ext cx="9860040" cy="92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 u="sng">
                <a:solidFill>
                  <a:srgbClr val="ccccff"/>
                </a:solidFill>
                <a:uFillTx/>
                <a:latin typeface="Arial"/>
              </a:rPr>
              <a:t>Library Media Resources Curriculum Map -- K-12</a:t>
            </a: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400"/>
            </a:br>
            <a:r>
              <a:rPr b="0" lang="en-US" sz="6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